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E86-8371-4B47-B4DE-954D574E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E9E-DEB5-4C62-9EF4-5A6DDF8F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0A38D-C199-4420-BE2B-00251243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36E60-9C53-410A-B100-912BFBA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12389-5DF9-414F-B715-007DE1A5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6759B-C56E-42F6-9558-F0CEE30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95F44-127A-4E2E-905F-FF85D489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07B77-25BE-4894-81B8-062527EB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E6756-8CBD-4D15-B2D7-08A61BAB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17CFD-C78F-4E64-8762-8B601F6D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953D3-47E7-4E3C-9E37-7E32645E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279EF-0316-47D5-BE9C-87899E57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972-8899-427E-86DC-0EB4BBD3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D594C-C0D1-430B-B249-3BDC4E6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D5155-EA89-4BE3-8FB4-9AD8EE5F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FF970-81A0-4C2B-A562-54853532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AC88B-F574-4615-A47E-6E183A0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2205C-F61D-4B2A-A537-702BF1C0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8DF2A-2009-4A2E-B382-AE87353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48A64-90B6-4F88-893C-38AA902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99846-7E33-4EE4-BDD4-FDD4A31B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A4337-90D3-4A89-94C3-28996D9F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E547F-EEF7-4ACF-BBF7-568D83E9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E6D-4181-43F9-82B0-FC9C1F88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05F14-4A85-476C-A9B6-71808143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86D11-7245-4F9B-8B22-07A741EF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E3782-6CE8-4232-84D2-3B63C7DA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7A88D-FB01-48CF-8F2A-643DE73B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F08BC-FEFA-4BAC-B5A2-088CFD7E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581D8-DA8D-4763-8C1D-F1EE29AB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C6E76-194A-44CC-8ABB-734CEFD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37453-B785-4120-B4E1-4448F80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ACF52-72DB-4559-B232-3E2B9853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68E16-D356-4FB3-99D0-EFB0EFFF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ACAC-534A-48C0-8C86-E7C43581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99815-4881-4834-AA43-92609780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EC61A-2568-4504-905E-641446C2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962D8-7BCE-4E93-BDFA-92F895F3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130BC8-6101-4E1B-91E3-52458072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14132D-C1A1-46C6-9502-F9520C26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C7C589-EF56-4956-AD44-8BFFA41B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2CEEA0-A77C-4FDE-A976-0F50674E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B1C82D-487C-4BCD-B396-FA3A7288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C3816F-0B7E-4BAD-93AB-28334D58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A2ABA7-7C32-44AE-8DA1-F7C38A72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6FCB-06CE-4322-8941-248A583F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DA918A-6970-429E-BA2D-7636C82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9FF79C-B7ED-4EA5-B884-0BEB92F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FAE6E7-9F4D-45DE-B7A3-E1B3ADE8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1C16ED-765F-412F-9937-D6C71803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9300FD-A6F4-4036-BEC3-C8C38A79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3A905-3BE3-4FFE-B7A8-243BA170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8D1B3-7E58-49F2-91B6-3408A630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BE71C-2705-4172-83BE-732B1619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FA8A3-73E9-477B-94E8-1F6334CA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7C907-631A-4D1D-89E3-4AC6E643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339-8F0F-4928-8DFD-D97DFFB6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66FAF-8ADB-4E7C-AF3A-59617915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6D950-2A31-4091-A83F-5A990212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DF50DF-9965-4873-844A-20E9D4FF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232A9-4DE6-4C20-98D1-2DC3B75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19614-5B7A-4C9A-B1C6-3BE15FD8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EDC4A-9210-49B1-8CB6-2EBDF8B3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468E3-95C6-4CC3-9002-FBBB4D07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5933F1-46D6-4E20-8BAE-31798711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FE6A0C-0454-4BE3-8AF9-7745DA07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4D00A3-AC11-4A66-BD5C-6E4B4CB4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4715-A759-44A4-BC8A-852CF30B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054ACE5-7A84-419D-98E0-9A11B002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68FA52-07A0-4B11-8998-036C4014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E2F8AB-ECA3-46F6-88A6-FD88EFC8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69642C-C12E-4555-8979-BA77B53D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5B8A8F-0BDA-4B1C-88BF-7BFF9B8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35A6DC-5EC9-4A7E-BF38-E4E7F6D8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58B609-FD07-4E07-B647-68BA9FC1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2A7D27-0740-4974-A86D-C541C84F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EC993B-7233-4932-8BC9-21715A8F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825A99-CECE-4757-9524-6633A267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162E-465B-44B5-B0D8-D5173D6E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4291E9-2124-4967-B7FA-C1569D89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9FEA7A-CFC3-44F3-8B2C-0E7EA18E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5BD9A5-5B8A-4B6D-98AF-A7EFA404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22AF05-9736-47DD-AC9A-354E8080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C04336-4B96-404C-BB55-30F00D54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2F1E1B-AA31-4A42-A4B0-897CEA31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6F9E26-5DC7-4BF7-A026-38125B4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6AC129-4E1D-41BD-9039-6FE1646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38FEFD-E867-4D6C-8843-15C61199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9C0B7A-ED8F-4AB9-AB70-8739F525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DBDF-0209-4131-8FE9-5E3C6A56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1F89CE-2428-427F-AF49-C7B2ECF8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6C6515-62C3-43BC-A415-6BF6FBC7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87F387-5C89-4747-99E3-AFF6E784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71A42F-1FD5-407D-9E6A-38B3F12E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074A61-1E2E-4919-8370-6F37B0EC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732B00-2AE6-4C9F-B31A-C5654785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529FBF-AF90-4A69-9629-3B376E8C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72F8591-5BDA-4F95-8112-329B756E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568C36-AF71-47F2-A6A9-D4172E3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39CA45-1348-4075-B910-5A6786A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F964-8E92-4ECB-AEDD-B0EFE984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CDDE94-D5EB-42E4-83A1-6DBB1DF9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9F789C-632A-45AD-A887-6B0A1659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D41B33-E704-48A4-AB07-E8C66ADB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14AD5-254C-42B7-A5F1-2ACB3560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3C798-11D8-48E7-BC46-B49E7195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433C9-9C78-49FA-BEA7-972060CD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64000D-4751-4F38-B05A-A9CD68F2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1AA032-5625-429E-95D4-E8CA76EC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85F8A-F164-4D2F-B6D7-D9BC421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DBD97-FECB-4AFC-8619-2A9BC64D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510D-8B5E-4150-A482-902AB0A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8E80-452A-4A56-9CE8-609127D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200234-A2B6-4983-96F2-6925D462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8219E-068B-40BD-9C29-3C718C0E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BACBB-98C3-4100-ADFE-D61B2E57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AAD3A-4F46-4286-83B8-FBBAA15A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BD53A-A37A-46CA-B9B7-6753712C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35A9D8-FB03-454C-B82E-A14B0FA3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6A76AA-AF71-413C-B9CF-2DCFE939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65B3BC-5896-473D-A129-6C404DD9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5DC2F9-FFE3-4424-974B-F71FD365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DFE695-25B7-445A-8F89-BF8202D7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7E63-CBDA-4E7B-B143-C9B2D584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867729C-880C-4626-BC5C-47F3E596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4AD6180-9C20-4319-8521-F479C2EB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8ACB398-EB8D-4AFB-BCC1-6D544C5F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C684A3-A464-440C-96C9-7FE827B8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49E5EB-980C-473B-A721-C8F3A4D7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C256022-C872-4226-89C0-110F4235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E1F783-87D6-46F6-9B71-9709FD6B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BF2BC-BB19-4690-9D8A-B9D73796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434B62-834C-4B86-9F15-0C2F99C6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23788-D917-4384-A25A-9031F439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7ABC-56E4-492E-9DC2-6FDBDFB8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31FBE-99D0-41EF-BC55-B48581B0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FE116-5481-483A-810A-90077E26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BE670-A1FE-4245-94DB-DBF79AF5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2AACC8-54D8-4560-A915-35F139DE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7084DF-C85D-498B-A9B1-2505781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CD86C-6265-4619-9B10-C9A241C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55DD58-C99D-460F-A1B0-B51D6737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96265-0402-4198-93DD-A8163567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C4770-BE1C-44F0-95BB-EB253D0E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0500-2CFF-42D6-98C8-A434DB33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6040-1F20-4DBD-B076-CF22D57B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AA6AB-BB22-4193-9E66-A94C910B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386C-66C5-4539-81FC-2B982F64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565E-7340-432F-A5B1-BE81F075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5241-7926-4ABA-8AD8-3880329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7883-19D9-48CE-97A3-86F32176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BDB-631D-4AA9-8853-3A5569A5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7E59-6255-4C6E-B2DC-D69CE622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B251-1609-42D5-9EFB-E138542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983D-0F2B-4536-9803-68AB310D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3744-7EA4-4349-BAEA-49813C3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7F14-8609-48C2-9EEF-8FA4611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1D27-AA97-4D3A-B776-0D24A8C3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D5E8-BE39-4D33-8D50-67F227F3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37227-9EE2-49E3-B382-D107E450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613C-5AAA-4520-9E2B-3238575C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E2583-6C73-4F12-862D-B9CE6136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4FA-4DDC-4973-BD58-4EC61C88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7FFF-912D-4B95-9447-4F00D45D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2B50-A9BF-4954-A8C3-517609E4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4F937-2CC2-4B91-BE7D-F998C636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EA06-DF5E-467F-B35A-31C52F7E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4ADA8-CC2B-4999-87D0-6C50AAAD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5860A-7E8C-426F-AB95-405E5E6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2E124-FC5A-453B-BAFE-DC4DAFC9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CD6B0-0DA2-4807-AD81-99BE0D51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36A2F-2A3B-4FE4-9ED2-3557E152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E41DA-D5E1-40A1-BD7F-DFE54AE5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915-6937-410C-80AB-A8964E80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80D8E-EC08-4180-91E6-B59047BF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7145A-2853-40ED-8042-8718451D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81801-89F6-4FD4-BB86-6DE4A3C3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B87E4-CA7B-41A9-BD3C-3FD8CDE5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27B1-EC18-43F7-90FD-23E9F1A3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BED83-EFD3-4A5A-A54B-7F0FF79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4A79-1A50-4764-B82D-A09FABFB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D192-6208-46D2-8336-CEE0DD12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3E880-289E-4B27-8C0E-241768E0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D972-816B-4738-9260-A4884BBB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0DA-38EC-42B5-ABC2-20AB514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AE817-4FFF-484D-8AB4-132195CA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DA350-7005-457C-918D-2AE5680D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E6DC-030C-4E68-89F6-D372C0E7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FBBF4-482A-43EA-9F74-7B22CE48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E4FE-7D0E-4F09-B734-30DF8C3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5467E-FC10-4FA3-B9C7-0645B431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A5E61-71AA-483C-B60E-50411E51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8E8D7-960B-4618-8952-AA8CC4E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484AE-0C3D-4C42-BC93-01030B6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B873-D5E1-4FE2-8A75-A65722BE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634-008A-4673-BB01-A0CABE7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299AC-A210-45B9-B384-CFD0A096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20B67-EB84-492A-9FA3-8A78ED66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47BCD-4485-4A28-A1D2-D19CE09D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EBB26-8C8B-49FC-9F01-743ACA71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DDC0B-E8D5-45A3-9F3A-34122F6D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1CEA0-25D4-43CF-94E5-C72CEA2A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015AD-31A3-4768-AEEB-7B46D2D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94F53-4AFA-4FFA-BFC2-62ABF341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726D-2BDF-48A2-A1EB-6040D73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681C-5E0D-495B-B2BC-23F4CCA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CFF-7C45-434F-AE95-003064F6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E83FB-F344-4BDD-9A87-1B231D35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7715A-0EF2-4FA2-835C-FFB6E5F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4D047-BC96-42B1-B01D-319DF16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EE0AB-E1E4-4910-973C-A868D991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F9B86-FB4C-4F39-8F87-C0FDA3E1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43FA-959D-4A30-AA61-48077AD3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AFF2F-225C-4D78-8BA7-C0092B07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74A90-D561-422D-BE7D-ED6551DF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43B64-41B7-4DA2-BB0C-DE87A5FD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1125-CC19-40AB-8B63-BBCAB3A9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CE4-7E40-4E3B-81D6-9A8162F0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1D3ED-35A4-4A11-929C-D83A485F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0F098-818A-495A-9FB2-29E6A230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87FC4-039E-4E03-98DA-A045AA1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5AC2B-7263-4C57-9E81-F8C38D77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56D0-7725-451A-892B-80259A8D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B18D5-CF6A-4F44-BFB2-7900C142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3584-828A-405E-9FB2-4BF36758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2C309-F577-4CD1-9959-2965817B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52AC9-4F8C-4909-9CD6-DBF63733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FF89F-17CB-4494-9600-69AB8912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0FA9-35B3-4968-9A12-65A5E49B765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8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462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66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7C6A-D9E3-4599-B733-1BFFB3910C4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AEB-4DEF-44F1-A937-DE3353B32F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A600-243D-4D2F-A260-F990676E46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329A-06D3-4C8C-B7F2-4B30D7A7E2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F8D4-46F0-4171-ABCC-75CAE396FC2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38B1-C821-413F-BB1E-C341E3F6F56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4D88-CF08-4DDC-93C3-4907633A9A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9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0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1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1E70-5955-4B2F-8D0D-173C718E0E4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sldNum" idx="5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7D94-7C66-4055-BE73-A7A8F02A216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ftr" idx="5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55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5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5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6232-92DA-4FEB-BDAE-6FE34B88FD4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AC5-8BD9-48B3-A678-3991E7BDFC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F30-7F57-4CDD-B0D8-16340C0C3B8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EE10-D521-4D00-8FE4-42230B8BDD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C14C-A009-4189-876E-18196FEEDD8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D54E-D79A-45EA-96F4-EB9B5E46AE9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87DA-389F-48CC-8BFE-D4BA2116674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6CAB-D719-497E-8B03-4BE5CF4D4C6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DBF5-8612-4BDD-AA7C-1B5CF1C1A4D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Rectangle 4" descr=""/>
          <p:cNvPicPr/>
          <p:nvPr/>
        </p:nvPicPr>
        <p:blipFill>
          <a:blip r:embed="rId1"/>
          <a:stretch/>
        </p:blipFill>
        <p:spPr>
          <a:xfrm>
            <a:off x="603360" y="-212760"/>
            <a:ext cx="7937280" cy="11397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2" descr="http://www.dhm.de/lemo/objekte/pict/f60_1214/index.jpg"/>
          <p:cNvPicPr/>
          <p:nvPr/>
        </p:nvPicPr>
        <p:blipFill>
          <a:blip r:embed="rId2"/>
          <a:stretch/>
        </p:blipFill>
        <p:spPr>
          <a:xfrm>
            <a:off x="2743200" y="990720"/>
            <a:ext cx="3638520" cy="5238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7632720" cy="115884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spartacus.schoolnet.co.uk/GERkaltenbrunner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jewishvirtuallibrary.org/jsource/Holocaust/Kaltenbrunner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historylearningsite.co.uk/ernst_kaltenbrunner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deathcamps.info/Nazis/page_6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ww.ushmm.org/wlc/article.php?lang=en&amp;ModuleId=1000711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 txBox="1"/>
          <p:nvPr/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rnst was born on October 4, 1903 in Ried, Austria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He studied law, and he obtained a law degree in 1926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77" name="Rectangle 3" descr=""/>
          <p:cNvPicPr/>
          <p:nvPr/>
        </p:nvPicPr>
        <p:blipFill>
          <a:blip r:embed="rId1"/>
          <a:stretch/>
        </p:blipFill>
        <p:spPr>
          <a:xfrm>
            <a:off x="596880" y="36360"/>
            <a:ext cx="8199360" cy="11527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http://i55.servimg.com/u/f55/12/45/91/85/heydri10.jpg"/>
          <p:cNvPicPr/>
          <p:nvPr/>
        </p:nvPicPr>
        <p:blipFill>
          <a:blip r:embed="rId2"/>
          <a:stretch/>
        </p:blipFill>
        <p:spPr>
          <a:xfrm>
            <a:off x="4038480" y="1371600"/>
            <a:ext cx="483552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Ernst Kaltenbrunner joined the Austrian Nazi Party in 1932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In 1934, he became the head of the Austrian S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Due to his Nazi views, he was jailed in January of 1934.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*  In his second position, he controlled the Gestapo, Criminal Police, and Security Servic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80" name="Rectangle 3" descr=""/>
          <p:cNvPicPr/>
          <p:nvPr/>
        </p:nvPicPr>
        <p:blipFill>
          <a:blip r:embed="rId1"/>
          <a:stretch/>
        </p:blipFill>
        <p:spPr>
          <a:xfrm>
            <a:off x="682560" y="-12600"/>
            <a:ext cx="7954920" cy="2371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 txBox="1"/>
          <p:nvPr/>
        </p:nvSpPr>
        <p:spPr>
          <a:xfrm>
            <a:off x="533520" y="457200"/>
            <a:ext cx="81532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bri"/>
              </a:rPr>
              <a:t>On September 11, 1938, he was promoted to SS Gruppenfuehrer by Adolph Hitler.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bri"/>
              </a:rPr>
              <a:t>He became the Chief of the Security Police and SD in January 1943.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bri"/>
              </a:rPr>
              <a:t>Later, he was rewarded for his work by Hitler by receiving the Knight’s Cross of the War Merit, Cross with Swords.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457200" y="8380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fter the attack on Hitler on July 20, 1944, he gained direct access to the Fuhrer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n the last years of the war, he was a large figure in the “Final Solution”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83" name="Picture 2" descr="http://www.holocaustresearchproject.org/holoprelude/images/kartenbrunner1.jpg"/>
          <p:cNvPicPr/>
          <p:nvPr/>
        </p:nvPicPr>
        <p:blipFill>
          <a:blip r:embed="rId1"/>
          <a:stretch/>
        </p:blipFill>
        <p:spPr>
          <a:xfrm>
            <a:off x="5105520" y="914400"/>
            <a:ext cx="329400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457200" y="1752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On May 15, 1945, American troops captured Ernst after his escape to South Germany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He was tried and found guilty on counts 3 and 4, war crimes and crimes against humanity, and sentenced to death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85" name="Rectangle 3" descr=""/>
          <p:cNvPicPr/>
          <p:nvPr/>
        </p:nvPicPr>
        <p:blipFill>
          <a:blip r:embed="rId1"/>
          <a:stretch/>
        </p:blipFill>
        <p:spPr>
          <a:xfrm>
            <a:off x="-85680" y="480960"/>
            <a:ext cx="94741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2000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2" descr="http://www.holocaustresearchproject.org/holoprelude/images/on%20trial.jpg"/>
          <p:cNvPicPr/>
          <p:nvPr/>
        </p:nvPicPr>
        <p:blipFill>
          <a:blip r:embed="rId1"/>
          <a:stretch/>
        </p:blipFill>
        <p:spPr>
          <a:xfrm>
            <a:off x="685800" y="228600"/>
            <a:ext cx="7729560" cy="5410080"/>
          </a:xfrm>
          <a:prstGeom prst="rect">
            <a:avLst/>
          </a:prstGeom>
          <a:ln w="0">
            <a:noFill/>
          </a:ln>
        </p:spPr>
      </p:pic>
      <p:sp>
        <p:nvSpPr>
          <p:cNvPr id="987" name="TextBox 2"/>
          <p:cNvSpPr/>
          <p:nvPr/>
        </p:nvSpPr>
        <p:spPr>
          <a:xfrm>
            <a:off x="685800" y="57150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orbel"/>
              </a:rPr>
              <a:t>This is a picture of Ernst Kaltenbrunner during his t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Kaltenbrunner was hanged on October 16, 1946.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89" name="Rectangle 3" descr=""/>
          <p:cNvPicPr/>
          <p:nvPr/>
        </p:nvPicPr>
        <p:blipFill>
          <a:blip r:embed="rId1"/>
          <a:stretch/>
        </p:blipFill>
        <p:spPr>
          <a:xfrm>
            <a:off x="2451240" y="66600"/>
            <a:ext cx="445608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9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rbel"/>
              </a:rPr>
              <a:t>Ernst Kaltenbrunner sent millions of Jews and political suspects to their deaths in a variety of concentration camps.</a:t>
            </a:r>
            <a:endParaRPr b="0" lang="en-US" sz="3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91" name="Rectangle 3" descr=""/>
          <p:cNvPicPr/>
          <p:nvPr/>
        </p:nvPicPr>
        <p:blipFill>
          <a:blip r:embed="rId1"/>
          <a:stretch/>
        </p:blipFill>
        <p:spPr>
          <a:xfrm>
            <a:off x="2719440" y="55440"/>
            <a:ext cx="3662280" cy="11034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" descr="http://www.scrapbookpages.com/Mauthausen/MauthausenPhotos/OldPhotos/Mauthausen47.jpg"/>
          <p:cNvPicPr/>
          <p:nvPr/>
        </p:nvPicPr>
        <p:blipFill>
          <a:blip r:embed="rId2"/>
          <a:stretch/>
        </p:blipFill>
        <p:spPr>
          <a:xfrm>
            <a:off x="4572000" y="1981080"/>
            <a:ext cx="4037040" cy="3143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26:22Z</dcterms:created>
  <dc:creator> </dc:creator>
  <dc:description/>
  <dc:language>en-US</dc:language>
  <cp:lastModifiedBy> </cp:lastModifiedBy>
  <dcterms:modified xsi:type="dcterms:W3CDTF">2009-11-25T17:08:46Z</dcterms:modified>
  <cp:revision>17</cp:revision>
  <dc:subject/>
  <dc:title>Slide 1</dc:title>
</cp:coreProperties>
</file>